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0DE6-1E58-41E5-BA5B-F8ECB077C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78920" y="40554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7101-30B1-422D-BB3B-66B22F52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97980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1563-D142-494A-81A4-39E46B08B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68668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19408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7892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68668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19408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B5A3-5CD3-46B1-947E-A7A51D8C5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78920" y="1197000"/>
            <a:ext cx="7417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74170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398000" cy="33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8920" y="1197000"/>
            <a:ext cx="7417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5933-3D88-4F25-832D-5FE53B52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97980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78920" y="40554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97980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68668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19408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7892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68668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19408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74170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DD0C-7A03-4244-BC4D-C187FF81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9F72-5701-4179-B164-A7FEC22A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FEF4-FEDC-463D-B1FF-59823DA6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398000" cy="33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55B8-677C-4465-9A6F-971BDCFC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F60F-337F-47A9-B60A-4D204516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7980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7CF8-86B6-47F8-A31B-C0CC669A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9B79-D4C7-49F0-BC7A-09604AA9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6.jpeg"/><Relationship Id="rId32" Type="http://schemas.openxmlformats.org/officeDocument/2006/relationships/image" Target="../media/image7.jpeg"/><Relationship Id="rId33" Type="http://schemas.openxmlformats.org/officeDocument/2006/relationships/slideLayout" Target="../slideLayouts/slideLayout13.xml"/><Relationship Id="rId34" Type="http://schemas.openxmlformats.org/officeDocument/2006/relationships/slideLayout" Target="../slideLayouts/slideLayout14.xml"/><Relationship Id="rId35" Type="http://schemas.openxmlformats.org/officeDocument/2006/relationships/slideLayout" Target="../slideLayouts/slideLayout15.xml"/><Relationship Id="rId36" Type="http://schemas.openxmlformats.org/officeDocument/2006/relationships/slideLayout" Target="../slideLayouts/slideLayout16.xml"/><Relationship Id="rId37" Type="http://schemas.openxmlformats.org/officeDocument/2006/relationships/slideLayout" Target="../slideLayouts/slideLayout17.xml"/><Relationship Id="rId38" Type="http://schemas.openxmlformats.org/officeDocument/2006/relationships/slideLayout" Target="../slideLayouts/slideLayout18.xml"/><Relationship Id="rId39" Type="http://schemas.openxmlformats.org/officeDocument/2006/relationships/slideLayout" Target="../slideLayouts/slideLayout19.xml"/><Relationship Id="rId40" Type="http://schemas.openxmlformats.org/officeDocument/2006/relationships/slideLayout" Target="../slideLayouts/slideLayout20.xml"/><Relationship Id="rId41" Type="http://schemas.openxmlformats.org/officeDocument/2006/relationships/slideLayout" Target="../slideLayouts/slideLayout21.xml"/><Relationship Id="rId42" Type="http://schemas.openxmlformats.org/officeDocument/2006/relationships/slideLayout" Target="../slideLayouts/slideLayout22.xml"/><Relationship Id="rId43" Type="http://schemas.openxmlformats.org/officeDocument/2006/relationships/slideLayout" Target="../slideLayouts/slideLayout23.xml"/><Relationship Id="rId4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8487-414B-45C4-8283-0F94817AC801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Kristen ITC"/>
              </a:rPr>
              <a:t>Click to edit the title text format</a:t>
            </a: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1"/>
          <a:stretch/>
        </p:blipFill>
        <p:spPr>
          <a:xfrm>
            <a:off x="7885080" y="0"/>
            <a:ext cx="125892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2"/>
          <a:stretch/>
        </p:blipFill>
        <p:spPr>
          <a:xfrm>
            <a:off x="8028000" y="5157720"/>
            <a:ext cx="950760" cy="1500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 rot="5400000">
            <a:off x="6590160" y="205632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f1311"/>
                </a:solidFill>
                <a:latin typeface="Kristen ITC"/>
              </a:rPr>
              <a:t>L’Etranger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Kristen ITC"/>
              </a:rPr>
              <a:t>Click to edit the outline text format</a:t>
            </a: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3"/>
    <p:sldLayoutId id="2147483663" r:id="rId34"/>
    <p:sldLayoutId id="2147483664" r:id="rId35"/>
    <p:sldLayoutId id="2147483665" r:id="rId36"/>
    <p:sldLayoutId id="2147483666" r:id="rId37"/>
    <p:sldLayoutId id="2147483667" r:id="rId38"/>
    <p:sldLayoutId id="2147483668" r:id="rId39"/>
    <p:sldLayoutId id="2147483669" r:id="rId40"/>
    <p:sldLayoutId id="2147483670" r:id="rId41"/>
    <p:sldLayoutId id="2147483671" r:id="rId42"/>
    <p:sldLayoutId id="2147483672" r:id="rId43"/>
    <p:sldLayoutId id="2147483673" r:id="rId4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406080"/>
            <a:ext cx="7182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Kristen ITC"/>
              </a:rPr>
              <a:t>Citation 1</a:t>
            </a: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1916280"/>
            <a:ext cx="712944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cf6f6"/>
                </a:solidFill>
                <a:latin typeface="Comic Sans MS"/>
              </a:rPr>
              <a:t>«Voilà l’image de ce procès.  Tout est vrai et rien n’est vrai »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f6f6"/>
                </a:solidFill>
                <a:latin typeface="Comic Sans MS"/>
              </a:rPr>
              <a:t>Page 93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406080"/>
            <a:ext cx="7182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Kristen ITC"/>
              </a:rPr>
              <a:t>Citation 2</a:t>
            </a: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1557360"/>
            <a:ext cx="712944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cf6f6"/>
                </a:solidFill>
                <a:latin typeface="Comic Sans MS"/>
              </a:rPr>
              <a:t>«J’ai senti alors quelque chose qui soulevait toute la salle et, pour la première fois, j’ai compris que j’étais coupable. »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f6f6"/>
                </a:solidFill>
                <a:latin typeface="Comic Sans MS"/>
              </a:rPr>
              <a:t>Page 91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406080"/>
            <a:ext cx="7182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Kristen ITC"/>
              </a:rPr>
              <a:t>Citation 3</a:t>
            </a: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97" name=""/>
          <p:cNvSpPr/>
          <p:nvPr/>
        </p:nvSpPr>
        <p:spPr>
          <a:xfrm>
            <a:off x="142920" y="1557360"/>
            <a:ext cx="7524720" cy="30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cf6f6"/>
                </a:solidFill>
                <a:latin typeface="Comic Sans MS"/>
              </a:rPr>
              <a:t>«Enfin, est-il accusé d’avoir enterré sa mère ou d’avoir tué un homme? »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f6f6"/>
                </a:solidFill>
                <a:latin typeface="Comic Sans MS"/>
              </a:rPr>
              <a:t>Page 97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12:37:07Z</dcterms:created>
  <dc:creator>Steve Badger</dc:creator>
  <dc:description/>
  <dc:language>en-US</dc:language>
  <cp:lastModifiedBy>badgers</cp:lastModifiedBy>
  <dcterms:modified xsi:type="dcterms:W3CDTF">2006-10-05T13:31:21Z</dcterms:modified>
  <cp:revision>9</cp:revision>
  <dc:subject/>
  <dc:title>Les thèmes du récit</dc:title>
</cp:coreProperties>
</file>